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939-39FC-459C-BBCE-C9BC1765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C24-D8B9-4F86-B38D-B6940786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2DA-72DE-4E73-8824-6747C1D1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12B-43CC-4629-89E6-6CB17687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403-186A-4E1D-B5C2-FC891F7E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B34-094C-4DB6-A799-7CB81B7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30C-6309-4771-8DD3-FA54F53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B13-EA9C-4AAE-AE40-6AD73B79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4B4-D8B3-46C1-9006-57FB3E1F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773-04A3-412F-B4CA-2577F7D8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2D3-4D44-404D-97A0-FDDEC65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F7F-E702-446A-B461-9D3CAF0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1FD-FBA8-4F1C-97A9-D4BFAB7CC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250920" y="4848120"/>
            <a:ext cx="6265800" cy="19443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  <a:ea typeface="Microsoft Yi Baiti"/>
              </a:rPr>
              <a:t>There is/isn’t; There are/aren’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  <a:ea typeface="Microsoft Yi Baiti"/>
              </a:rPr>
              <a:t>Are/Is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Comic Sans MS"/>
                <a:ea typeface="Microsoft Yi Baiti"/>
              </a:rPr>
              <a:t>a/an; some; an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Comic Sans MS"/>
                <a:ea typeface="Microsoft Yi Baiti"/>
              </a:rPr>
              <a:t>a lot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3"/>
          <p:cNvSpPr/>
          <p:nvPr/>
        </p:nvSpPr>
        <p:spPr>
          <a:xfrm>
            <a:off x="4140360" y="5013360"/>
            <a:ext cx="467964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kitchen/sauce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684360" y="836640"/>
            <a:ext cx="439236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 sauce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in the kit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tilisateur\AppData\Local\Microsoft\Windows\Temporary Internet Files\Content.IE5\1THN781P\MC900338172[1].wmf"/>
          <p:cNvPicPr/>
          <p:nvPr/>
        </p:nvPicPr>
        <p:blipFill>
          <a:blip r:embed="rId1"/>
          <a:stretch/>
        </p:blipFill>
        <p:spPr>
          <a:xfrm>
            <a:off x="3348000" y="4149720"/>
            <a:ext cx="827280" cy="851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Utilisateur\AppData\Local\Microsoft\Windows\Temporary Internet Files\Content.IE5\A51V1770\MC900013412[1].wmf"/>
          <p:cNvPicPr/>
          <p:nvPr/>
        </p:nvPicPr>
        <p:blipFill>
          <a:blip r:embed="rId2"/>
          <a:stretch/>
        </p:blipFill>
        <p:spPr>
          <a:xfrm>
            <a:off x="6084720" y="4149720"/>
            <a:ext cx="547920" cy="281160"/>
          </a:xfrm>
          <a:prstGeom prst="rect">
            <a:avLst/>
          </a:prstGeom>
          <a:ln w="0">
            <a:noFill/>
          </a:ln>
        </p:spPr>
      </p:pic>
      <p:cxnSp>
        <p:nvCxnSpPr>
          <p:cNvPr id="67" name="מחבר חץ ישר 6"/>
          <p:cNvCxnSpPr/>
          <p:nvPr/>
        </p:nvCxnSpPr>
        <p:spPr>
          <a:xfrm flipH="1" flipV="1">
            <a:off x="6358680" y="4430160"/>
            <a:ext cx="950040" cy="7275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3"/>
          <p:cNvSpPr/>
          <p:nvPr/>
        </p:nvSpPr>
        <p:spPr>
          <a:xfrm>
            <a:off x="5398920" y="5084640"/>
            <a:ext cx="374508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604a7b"/>
                </a:solidFill>
                <a:latin typeface="Ravie"/>
              </a:rPr>
              <a:t>(-)</a:t>
            </a: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kitchen/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"/>
          <p:cNvSpPr/>
          <p:nvPr/>
        </p:nvSpPr>
        <p:spPr>
          <a:xfrm>
            <a:off x="1042920" y="836640"/>
            <a:ext cx="5184720" cy="122004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 aren’t any c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in the kitchen</a:t>
            </a:r>
            <a:r>
              <a:rPr b="0" lang="fr-FR" sz="4400" spc="-1" strike="noStrike">
                <a:solidFill>
                  <a:srgbClr val="ff0000"/>
                </a:solidFill>
                <a:latin typeface="Ravi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tilisateur\AppData\Local\Microsoft\Windows\Temporary Internet Files\Content.IE5\1THN781P\MC900338172[1].wmf"/>
          <p:cNvPicPr/>
          <p:nvPr/>
        </p:nvPicPr>
        <p:blipFill>
          <a:blip r:embed="rId1"/>
          <a:stretch/>
        </p:blipFill>
        <p:spPr>
          <a:xfrm>
            <a:off x="3348000" y="4149720"/>
            <a:ext cx="82728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Utilisateur\AppData\Local\Microsoft\Windows\Temporary Internet Files\Content.IE5\A51V1770\MC900013412[1].wmf"/>
          <p:cNvPicPr/>
          <p:nvPr/>
        </p:nvPicPr>
        <p:blipFill>
          <a:blip r:embed="rId2"/>
          <a:stretch/>
        </p:blipFill>
        <p:spPr>
          <a:xfrm>
            <a:off x="6084720" y="4149720"/>
            <a:ext cx="547920" cy="281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3"/>
          <p:cNvSpPr/>
          <p:nvPr/>
        </p:nvSpPr>
        <p:spPr>
          <a:xfrm>
            <a:off x="324000" y="836640"/>
            <a:ext cx="3816360" cy="8247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04a7b"/>
                </a:solidFill>
                <a:latin typeface="Ravie"/>
              </a:rPr>
              <a:t>bed/ba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2"/>
          <p:cNvSpPr/>
          <p:nvPr/>
        </p:nvSpPr>
        <p:spPr>
          <a:xfrm>
            <a:off x="324000" y="3213000"/>
            <a:ext cx="4103640" cy="10227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There’s a ba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on the 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Utilisateur\AppData\Local\Microsoft\Windows\Temporary Internet Files\Content.IE5\0TY1M3QR\MC900014565[1].wmf"/>
          <p:cNvPicPr/>
          <p:nvPr/>
        </p:nvPicPr>
        <p:blipFill>
          <a:blip r:embed="rId1"/>
          <a:stretch/>
        </p:blipFill>
        <p:spPr>
          <a:xfrm>
            <a:off x="1763640" y="2448000"/>
            <a:ext cx="668520" cy="460440"/>
          </a:xfrm>
          <a:prstGeom prst="rect">
            <a:avLst/>
          </a:prstGeom>
          <a:ln w="0">
            <a:noFill/>
          </a:ln>
        </p:spPr>
      </p:pic>
      <p:cxnSp>
        <p:nvCxnSpPr>
          <p:cNvPr id="75" name="מחבר חץ ישר 5"/>
          <p:cNvCxnSpPr/>
          <p:nvPr/>
        </p:nvCxnSpPr>
        <p:spPr>
          <a:xfrm>
            <a:off x="1834920" y="1557000"/>
            <a:ext cx="216360" cy="43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3"/>
          <p:cNvSpPr/>
          <p:nvPr/>
        </p:nvSpPr>
        <p:spPr>
          <a:xfrm>
            <a:off x="755640" y="981000"/>
            <a:ext cx="5688000" cy="8247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04a7b"/>
                </a:solidFill>
                <a:latin typeface="Ravie"/>
              </a:rPr>
              <a:t>bathroom/b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2"/>
          <p:cNvSpPr/>
          <p:nvPr/>
        </p:nvSpPr>
        <p:spPr>
          <a:xfrm>
            <a:off x="611280" y="3357720"/>
            <a:ext cx="6840360" cy="15490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Ravie"/>
              </a:rPr>
              <a:t>There’s a boy in the bathro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Utilisateur\AppData\Local\Microsoft\Windows\Temporary Internet Files\Content.IE5\BHO3YV8L\MC900232739[1].wmf"/>
          <p:cNvPicPr/>
          <p:nvPr/>
        </p:nvPicPr>
        <p:blipFill>
          <a:blip r:embed="rId1"/>
          <a:stretch/>
        </p:blipFill>
        <p:spPr>
          <a:xfrm>
            <a:off x="4572000" y="2421000"/>
            <a:ext cx="523800" cy="92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3"/>
          <p:cNvSpPr/>
          <p:nvPr/>
        </p:nvSpPr>
        <p:spPr>
          <a:xfrm>
            <a:off x="4716360" y="2421000"/>
            <a:ext cx="3816360" cy="8910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kitchen/washing mach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"/>
          <p:cNvSpPr/>
          <p:nvPr/>
        </p:nvSpPr>
        <p:spPr>
          <a:xfrm>
            <a:off x="1116000" y="5373720"/>
            <a:ext cx="7343640" cy="11538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Is there a wa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machine in the kit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מחבר חץ ישר 5" descr=""/>
          <p:cNvPicPr/>
          <p:nvPr/>
        </p:nvPicPr>
        <p:blipFill>
          <a:blip r:embed="rId1"/>
          <a:stretch/>
        </p:blipFill>
        <p:spPr>
          <a:xfrm>
            <a:off x="5919840" y="3413160"/>
            <a:ext cx="620640" cy="622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1908000" y="3573360"/>
            <a:ext cx="561672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bedroom/child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1116000" y="5373720"/>
            <a:ext cx="7343640" cy="5616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Are there any children in the bed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3"/>
          <p:cNvSpPr/>
          <p:nvPr/>
        </p:nvSpPr>
        <p:spPr>
          <a:xfrm>
            <a:off x="250920" y="981000"/>
            <a:ext cx="612144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bedroom/alarm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179280" y="3573360"/>
            <a:ext cx="7345440" cy="49644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n alarm clock in the bed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3"/>
          <p:cNvSpPr/>
          <p:nvPr/>
        </p:nvSpPr>
        <p:spPr>
          <a:xfrm>
            <a:off x="179280" y="2781360"/>
            <a:ext cx="561672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living room/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468360" y="5445000"/>
            <a:ext cx="7343640" cy="11538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There’s a woman in the liv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Utilisateur\AppData\Local\Microsoft\Windows\Temporary Internet Files\Content.IE5\1THN781P\MC900089682[1].wmf"/>
          <p:cNvPicPr/>
          <p:nvPr/>
        </p:nvPicPr>
        <p:blipFill>
          <a:blip r:embed="rId1"/>
          <a:stretch/>
        </p:blipFill>
        <p:spPr>
          <a:xfrm>
            <a:off x="611280" y="3645000"/>
            <a:ext cx="1380960" cy="158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3"/>
          <p:cNvSpPr/>
          <p:nvPr/>
        </p:nvSpPr>
        <p:spPr>
          <a:xfrm>
            <a:off x="4572000" y="2781360"/>
            <a:ext cx="396072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kitchen/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59280" y="5373720"/>
            <a:ext cx="5400360" cy="11538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Is there a c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in the kit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tilisateur\AppData\Local\Microsoft\Windows\Temporary Internet Files\Content.IE5\1THN781P\MC900089682[1].wmf"/>
          <p:cNvPicPr/>
          <p:nvPr/>
        </p:nvPicPr>
        <p:blipFill>
          <a:blip r:embed="rId1"/>
          <a:stretch/>
        </p:blipFill>
        <p:spPr>
          <a:xfrm>
            <a:off x="611280" y="3645000"/>
            <a:ext cx="138096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Utilisateur\AppData\Local\Microsoft\Windows\Temporary Internet Files\Content.IE5\RXPTVUJI\MC900155531[1].wmf"/>
          <p:cNvPicPr/>
          <p:nvPr/>
        </p:nvPicPr>
        <p:blipFill>
          <a:blip r:embed="rId2"/>
          <a:stretch/>
        </p:blipFill>
        <p:spPr>
          <a:xfrm>
            <a:off x="7740720" y="4941720"/>
            <a:ext cx="644400" cy="341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3"/>
          <p:cNvSpPr/>
          <p:nvPr/>
        </p:nvSpPr>
        <p:spPr>
          <a:xfrm>
            <a:off x="539640" y="1341360"/>
            <a:ext cx="280836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bed/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2"/>
          <p:cNvSpPr/>
          <p:nvPr/>
        </p:nvSpPr>
        <p:spPr>
          <a:xfrm>
            <a:off x="611280" y="3573360"/>
            <a:ext cx="5400720" cy="6274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Ravie"/>
              </a:rPr>
              <a:t>There’s a cat on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Users\Utilisateur\AppData\Local\Microsoft\Windows\Temporary Internet Files\Content.IE5\RXPTVUJI\MC900155531[1].wmf"/>
          <p:cNvPicPr/>
          <p:nvPr/>
        </p:nvPicPr>
        <p:blipFill>
          <a:blip r:embed="rId1"/>
          <a:stretch/>
        </p:blipFill>
        <p:spPr>
          <a:xfrm>
            <a:off x="7740720" y="4941720"/>
            <a:ext cx="644400" cy="34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Utilisateur\AppData\Local\Microsoft\Windows\Temporary Internet Files\Content.IE5\CGSA2OLU\MC900038966[1].wmf"/>
          <p:cNvPicPr/>
          <p:nvPr/>
        </p:nvPicPr>
        <p:blipFill>
          <a:blip r:embed="rId2"/>
          <a:stretch/>
        </p:blipFill>
        <p:spPr>
          <a:xfrm>
            <a:off x="1835280" y="2565360"/>
            <a:ext cx="550800" cy="40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755640" y="836640"/>
            <a:ext cx="396072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attic/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2"/>
          <p:cNvSpPr/>
          <p:nvPr/>
        </p:nvSpPr>
        <p:spPr>
          <a:xfrm>
            <a:off x="1332000" y="3068640"/>
            <a:ext cx="6769080" cy="4305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Ravie"/>
              </a:rPr>
              <a:t>There is a window in the at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3"/>
          <p:cNvSpPr/>
          <p:nvPr/>
        </p:nvSpPr>
        <p:spPr>
          <a:xfrm>
            <a:off x="468360" y="1197000"/>
            <a:ext cx="3311640" cy="62748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04a7b"/>
                </a:solidFill>
                <a:latin typeface="Ravie"/>
              </a:rPr>
              <a:t> </a:t>
            </a:r>
            <a:r>
              <a:rPr b="0" lang="he-IL" sz="3200" spc="-1" strike="noStrike">
                <a:solidFill>
                  <a:srgbClr val="604a7b"/>
                </a:solidFill>
                <a:latin typeface="Ravie"/>
              </a:rPr>
              <a:t>(-)</a:t>
            </a: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house/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2"/>
          <p:cNvSpPr/>
          <p:nvPr/>
        </p:nvSpPr>
        <p:spPr>
          <a:xfrm>
            <a:off x="250920" y="5802480"/>
            <a:ext cx="4752720" cy="10227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There isn’t a c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in the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oneTexte 3"/>
          <p:cNvSpPr/>
          <p:nvPr/>
        </p:nvSpPr>
        <p:spPr>
          <a:xfrm>
            <a:off x="2556000" y="3500280"/>
            <a:ext cx="3960720" cy="8910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604a7b"/>
                </a:solidFill>
                <a:latin typeface="Ravie"/>
              </a:rPr>
              <a:t>(-)</a:t>
            </a: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/ward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3419640" y="333360"/>
            <a:ext cx="5545080" cy="82476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Ravie"/>
              </a:rPr>
              <a:t>There isn’t a wardrobe in the bedroom</a:t>
            </a:r>
            <a:r>
              <a:rPr b="0" lang="fr-FR" sz="4400" spc="-1" strike="noStrike">
                <a:solidFill>
                  <a:srgbClr val="ff0000"/>
                </a:solidFill>
                <a:latin typeface="Ravi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5543640" y="3284640"/>
            <a:ext cx="360036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bedroom/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2"/>
          <p:cNvSpPr/>
          <p:nvPr/>
        </p:nvSpPr>
        <p:spPr>
          <a:xfrm>
            <a:off x="0" y="549360"/>
            <a:ext cx="464328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 dog in the bed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2268360" y="4437000"/>
            <a:ext cx="410400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cellar/bott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2"/>
          <p:cNvSpPr/>
          <p:nvPr/>
        </p:nvSpPr>
        <p:spPr>
          <a:xfrm>
            <a:off x="826920" y="907920"/>
            <a:ext cx="5545440" cy="10227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Ravie"/>
              </a:rPr>
              <a:t>Are there any bottles in the cel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מחבר חץ ישר 5"/>
          <p:cNvCxnSpPr/>
          <p:nvPr/>
        </p:nvCxnSpPr>
        <p:spPr>
          <a:xfrm flipH="1">
            <a:off x="3924000" y="5084640"/>
            <a:ext cx="216720" cy="866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3"/>
          <p:cNvSpPr/>
          <p:nvPr/>
        </p:nvSpPr>
        <p:spPr>
          <a:xfrm>
            <a:off x="2484360" y="3141720"/>
            <a:ext cx="3922920" cy="49644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04a7b"/>
                </a:solidFill>
                <a:latin typeface="Ravie"/>
              </a:rPr>
              <a:t>bathroom/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2"/>
          <p:cNvSpPr/>
          <p:nvPr/>
        </p:nvSpPr>
        <p:spPr>
          <a:xfrm>
            <a:off x="0" y="836640"/>
            <a:ext cx="4753080" cy="75996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79646"/>
                </a:solidFill>
                <a:latin typeface="Ravie"/>
              </a:rPr>
              <a:t> </a:t>
            </a:r>
            <a:r>
              <a:rPr b="0" lang="he-IL" sz="2000" spc="-1" strike="noStrike">
                <a:solidFill>
                  <a:srgbClr val="f79646"/>
                </a:solidFill>
                <a:latin typeface="Ravie"/>
              </a:rPr>
              <a:t>(-)</a:t>
            </a:r>
            <a:r>
              <a:rPr b="0" lang="fr-FR" sz="2000" spc="-1" strike="noStrike">
                <a:solidFill>
                  <a:srgbClr val="f79646"/>
                </a:solidFill>
                <a:latin typeface="Ravie"/>
              </a:rPr>
              <a:t>There aren’t 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9646"/>
                </a:solidFill>
                <a:latin typeface="Ravie"/>
              </a:rPr>
              <a:t>people in the bath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מחבר חץ ישר 5"/>
          <p:cNvCxnSpPr/>
          <p:nvPr/>
        </p:nvCxnSpPr>
        <p:spPr>
          <a:xfrm>
            <a:off x="3347640" y="1628280"/>
            <a:ext cx="864360" cy="577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3635280" y="1700280"/>
            <a:ext cx="3673440" cy="62748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Ravie"/>
              </a:rPr>
              <a:t>attic/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1332000" y="2997360"/>
            <a:ext cx="5976720" cy="49644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 are a lot of boxes in the at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מחבר חץ ישר 5"/>
          <p:cNvCxnSpPr/>
          <p:nvPr/>
        </p:nvCxnSpPr>
        <p:spPr>
          <a:xfrm flipV="1">
            <a:off x="4643280" y="1341000"/>
            <a:ext cx="1369440" cy="4327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755640" y="5013360"/>
            <a:ext cx="424800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living room/c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755640" y="836640"/>
            <a:ext cx="403236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Is there a ca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 living room?</a:t>
            </a:r>
            <a:r>
              <a:rPr b="0" lang="he-IL" sz="2400" spc="-1" strike="noStrike">
                <a:solidFill>
                  <a:srgbClr val="ff0000"/>
                </a:solidFill>
                <a:latin typeface="Ravi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3"/>
          <p:cNvSpPr/>
          <p:nvPr/>
        </p:nvSpPr>
        <p:spPr>
          <a:xfrm>
            <a:off x="179280" y="5300640"/>
            <a:ext cx="4897440" cy="561600"/>
          </a:xfrm>
          <a:prstGeom prst="flowChartAlternateProcess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04a7b"/>
                </a:solidFill>
                <a:latin typeface="Ravie"/>
              </a:rPr>
              <a:t>coffee table/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826920" y="836640"/>
            <a:ext cx="446580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There’s a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Ravie"/>
              </a:rPr>
              <a:t>on the coffe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Utilisateur\AppData\Local\Microsoft\Windows\Temporary Internet Files\Content.IE5\1THN781P\MC900338172[1].wmf"/>
          <p:cNvPicPr/>
          <p:nvPr/>
        </p:nvPicPr>
        <p:blipFill>
          <a:blip r:embed="rId1"/>
          <a:stretch/>
        </p:blipFill>
        <p:spPr>
          <a:xfrm>
            <a:off x="3348000" y="4149720"/>
            <a:ext cx="827280" cy="851040"/>
          </a:xfrm>
          <a:prstGeom prst="rect">
            <a:avLst/>
          </a:prstGeom>
          <a:ln w="0">
            <a:noFill/>
          </a:ln>
        </p:spPr>
      </p:pic>
      <p:cxnSp>
        <p:nvCxnSpPr>
          <p:cNvPr id="62" name="מחבר חץ ישר 5"/>
          <p:cNvCxnSpPr/>
          <p:nvPr/>
        </p:nvCxnSpPr>
        <p:spPr>
          <a:xfrm flipH="1" flipV="1">
            <a:off x="3994920" y="4796640"/>
            <a:ext cx="361080" cy="6483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7:56:02Z</dcterms:created>
  <dc:creator>MOURNARD</dc:creator>
  <dc:description/>
  <dc:language>en-US</dc:language>
  <cp:lastModifiedBy>igal</cp:lastModifiedBy>
  <dcterms:modified xsi:type="dcterms:W3CDTF">2012-10-09T10:35:52Z</dcterms:modified>
  <cp:revision>8</cp:revision>
  <dc:subject/>
  <dc:title>Diapositive 1</dc:title>
</cp:coreProperties>
</file>